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D997-6A48-4EC7-B614-377AB98C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9807-F75A-4704-9BD9-533DBC6A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C1E1-1D74-4713-BEEA-C362B471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0A97-EE37-4417-9BFC-D5D31E93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197A-41E3-4D8E-8FC1-10DEDDDEB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F195-2299-49D6-86F0-1F9C580B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34ED-0C05-4944-BAC9-88E7A56F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0A44-EEF7-42D0-BFB6-5E3B8311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C46F-858F-4B2A-B45F-A85BE511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D63B-4965-49A7-A41F-AE8B095D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34F2-BA89-4318-AC44-4E1D025A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43F4-261B-4ED1-8290-82E2CAFB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1D6F-7A25-4352-AA81-E1887172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EDDF-516D-4B6F-AFAB-12C998C1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E98B-D856-4855-9186-AC18FF30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7F39-C578-484D-A397-832E95303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AF47-0D03-4048-8F0B-1B0E4E5FD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76B4-BBFF-431D-BCE8-E43D9EBD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6C4C-EF04-49FC-B79C-7ADB1075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5D5C-8508-4956-B406-E7F36BCD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86E9-FC8A-4823-B918-15D241A6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448A-6924-4D65-9B55-957EB1E6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89B3-F3A2-4FC8-8A62-6FC3E459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D2FB-D259-41B7-8C14-95EAC6F5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A748-B6DE-4026-B793-0E2089D69A0F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360" y="216036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BRYŁ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539C-12DD-4B8C-AD1E-544A5FFBF51A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06640" y="1898640"/>
            <a:ext cx="7515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SIAT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PROSTOPADŁOŚCIANÓ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OWSTAWANIE SIATK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997920"/>
            <a:ext cx="38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zcinanie prostopadłościan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46280" y="1673280"/>
          <a:ext cx="147456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1673280"/>
                    <a:ext cx="147456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367000" y="1494000"/>
          <a:ext cx="1471680" cy="118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7000" y="1494000"/>
                    <a:ext cx="1471680" cy="11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941640" y="1538280"/>
          <a:ext cx="1900440" cy="175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41640" y="1538280"/>
                    <a:ext cx="190044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6192720" y="1538280"/>
          <a:ext cx="2303640" cy="175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92720" y="1538280"/>
                    <a:ext cx="2303640" cy="17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971640" y="3472560"/>
            <a:ext cx="63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 rozcięciu prostopadłościanu otrzymujemy jego siatk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637000" y="4014720"/>
          <a:ext cx="3778200" cy="204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37000" y="4014720"/>
                    <a:ext cx="377820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06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IATKI PROSTOPADŁOŚCIA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2000" y="153756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iatka prostopadłościanu może mieć różne kształ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Obraz 232" descr=""/>
          <p:cNvPicPr/>
          <p:nvPr/>
        </p:nvPicPr>
        <p:blipFill>
          <a:blip r:embed="rId1"/>
          <a:stretch/>
        </p:blipFill>
        <p:spPr>
          <a:xfrm>
            <a:off x="971640" y="2438280"/>
            <a:ext cx="783108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06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IATKA SZEŚCIA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797360" y="2754360"/>
          <a:ext cx="943200" cy="9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7360" y="2754360"/>
                    <a:ext cx="94320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285920" y="1042920"/>
          <a:ext cx="2924280" cy="220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5920" y="1042920"/>
                    <a:ext cx="2924280" cy="22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2276640" y="4284720"/>
          <a:ext cx="2923920" cy="220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76640" y="4284720"/>
                    <a:ext cx="2923920" cy="22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7272360" y="1133640"/>
          <a:ext cx="1484280" cy="364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72360" y="1133640"/>
                    <a:ext cx="148428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 flipV="1">
            <a:off x="6058080" y="2259000"/>
            <a:ext cx="1258560" cy="765360"/>
          </a:xfrm>
          <a:prstGeom prst="line">
            <a:avLst/>
          </a:prstGeom>
          <a:ln w="44280">
            <a:solidFill>
              <a:srgbClr val="ff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985920" y="3968640"/>
            <a:ext cx="855720" cy="720720"/>
          </a:xfrm>
          <a:prstGeom prst="line">
            <a:avLst/>
          </a:prstGeom>
          <a:ln w="44280">
            <a:solidFill>
              <a:srgbClr val="ff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3266640" y="2979720"/>
            <a:ext cx="1305000" cy="449280"/>
          </a:xfrm>
          <a:prstGeom prst="line">
            <a:avLst/>
          </a:prstGeom>
          <a:ln w="44280">
            <a:solidFill>
              <a:srgbClr val="ff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57:22Z</dcterms:modified>
  <cp:revision>89</cp:revision>
  <dc:subject/>
  <dc:title>Slajd 1</dc:title>
</cp:coreProperties>
</file>